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4518-0127-4E22-BDF5-706DEEAF3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7456-4352-48FE-A214-2D2817617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8A4D-F1F7-44BF-8E4A-3D96ACD71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4207-AAB7-48FB-A103-AB4C28054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34604-1483-464B-B465-5D3469AEC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71B21-2DC2-4567-A4CF-D36D9EB4F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C0027-C2D7-404C-BBEE-C3368333C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BC4F9-14D6-4EDA-9414-98D4F40D4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27E3E-3146-4D4F-8A29-D3C6DA152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22F4B-80BA-4428-98D6-50DDED2A2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CF99B-FAB7-4335-BDF3-FC80DD19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0CAC-E12F-4174-B4B2-3B97AEDA6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55286-8C10-4726-A900-44570435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4E74B-60A3-47BE-8758-5C78F1FA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6043D-7B8E-414B-9BB6-8DDCAEF8C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760E4-54CC-41EA-8BCC-B3610E5E3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4940C-BBB4-49F7-BD64-5EA9F6C33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DA28-51E8-40ED-86B1-C3B2B953B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4EEE-25D3-4315-AF5C-CDECC7AB5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7C13-225F-4C09-B8C5-30EB1159D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03C2-654C-4E72-95A3-123ED8157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9F6C-BA9A-401C-B7C3-B1176596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92E8-24EB-4BD8-BBD3-57B7E845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DFCD-2806-4B44-B56B-AC5E6D95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526C4-D51C-4121-B6E2-9F798342A4BC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9CCA0-D84D-4ED2-99AE-1FCC77CB5C66}" type="slidenum">
              <a:rPr b="0" lang="fi-FI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5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fi-FI" sz="5400" spc="-1" strike="noStrike">
                <a:solidFill>
                  <a:srgbClr val="ffffb7"/>
                </a:solidFill>
                <a:latin typeface="Arial Black"/>
              </a:rPr>
              <a:t>OPETTAJAN TYÖELÄMÄJAKSO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i-FI" sz="3200" spc="-1" strike="noStrike">
                <a:solidFill>
                  <a:srgbClr val="ffffff"/>
                </a:solidFill>
                <a:latin typeface="Arial"/>
              </a:rPr>
              <a:t>Susan Sundström – Varjo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fi-FI" sz="3200" spc="-1" strike="noStrike">
                <a:solidFill>
                  <a:srgbClr val="ffffff"/>
                </a:solidFill>
                <a:latin typeface="Arial"/>
              </a:rPr>
              <a:t>Hyvinkään nuorisopalvel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fi-FI" sz="3200" spc="-1" strike="noStrike">
                <a:solidFill>
                  <a:srgbClr val="ffffff"/>
                </a:solidFill>
                <a:latin typeface="Arial"/>
              </a:rPr>
              <a:t>7.2.-18.2.20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fi-FI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fi-FI" sz="4800" spc="-1" strike="noStrike">
                <a:solidFill>
                  <a:srgbClr val="ffffb7"/>
                </a:solidFill>
                <a:latin typeface="Arial Black"/>
              </a:rPr>
              <a:t>Kun nuorisotyö </a:t>
            </a:r>
            <a:r>
              <a:rPr b="1" lang="fi-FI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fi-FI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fi-FI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fi-FI" sz="4800" spc="-1" strike="noStrike">
                <a:solidFill>
                  <a:srgbClr val="ffffb7"/>
                </a:solidFill>
                <a:latin typeface="Arial Black"/>
              </a:rPr>
              <a:t>on ajan tasalla, </a:t>
            </a:r>
            <a:r>
              <a:rPr b="1" lang="fi-FI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fi-FI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fi-FI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fi-FI" sz="4800" spc="-1" strike="noStrike">
                <a:solidFill>
                  <a:srgbClr val="ffffb7"/>
                </a:solidFill>
                <a:latin typeface="Arial Black"/>
              </a:rPr>
              <a:t>se on jo ajastaan </a:t>
            </a:r>
            <a:r>
              <a:rPr b="1" lang="fi-FI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fi-FI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fi-FI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fi-FI" sz="4800" spc="-1" strike="noStrike">
                <a:solidFill>
                  <a:srgbClr val="ffffb7"/>
                </a:solidFill>
                <a:latin typeface="Arial Black"/>
              </a:rPr>
              <a:t>jäljessä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fi-FI" sz="4400" spc="-1" strike="noStrike">
                <a:solidFill>
                  <a:srgbClr val="ffffb7"/>
                </a:solidFill>
                <a:latin typeface="Arial Black"/>
              </a:rPr>
              <a:t>Lukujärjestys/Sus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826920" y="1916280"/>
          <a:ext cx="8007480" cy="4190760"/>
        </p:xfrm>
        <a:graphic>
          <a:graphicData uri="http://schemas.openxmlformats.org/drawingml/2006/table">
            <a:tbl>
              <a:tblPr/>
              <a:tblGrid>
                <a:gridCol w="1602000"/>
                <a:gridCol w="1601640"/>
                <a:gridCol w="1600200"/>
                <a:gridCol w="1602000"/>
                <a:gridCol w="1601640"/>
              </a:tblGrid>
              <a:tr h="13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-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nsiivine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stensuojelu/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S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-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lmakulma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staaja-koulutus,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-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v- nuorisotyö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 – 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- verkkolevyn suunnittel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 – 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ari, Nuta facebookiss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 – 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uuma +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ikuttajatapaamin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usulass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-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lmakulma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ysymyks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 – 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orisopalveluiden ohjaajapalaver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 – 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nhempainilta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oret ja nett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 – 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bbo päiysty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ffffb7"/>
                </a:solidFill>
                <a:latin typeface="Arial Black"/>
              </a:rPr>
              <a:t>   </a:t>
            </a:r>
            <a:r>
              <a:rPr b="1" lang="fi-FI" sz="4400" spc="-1" strike="noStrike">
                <a:solidFill>
                  <a:srgbClr val="ffffb7"/>
                </a:solidFill>
                <a:latin typeface="Arial Black"/>
              </a:rPr>
              <a:t>Keskeiset tavoitteet      </a:t>
            </a:r>
            <a:r>
              <a:rPr b="1" lang="fi-FI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fi-FI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fi-FI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fi-FI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fi-FI" sz="4400" spc="-1" strike="noStrike">
                <a:solidFill>
                  <a:srgbClr val="ffffb7"/>
                </a:solidFill>
                <a:latin typeface="Arial Black"/>
              </a:rPr>
              <a:t>jaksolle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Verkkonuorisotyö l. verkossa tehtävä nuorisoty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- Facebook -&gt; esimerkk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- Habbo Hotel -&gt; esimerkk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- Neta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- De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Nuorten tieto –ja neuvontapalvel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- Pulmakulma (Hgin seutukunta) -&gt; </a:t>
            </a:r>
            <a:r>
              <a:rPr b="0" lang="fi-FI" sz="2000" spc="-1" strike="noStrike">
                <a:solidFill>
                  <a:srgbClr val="ffffff"/>
                </a:solidFill>
                <a:latin typeface="Arial"/>
              </a:rPr>
              <a:t>esimerkk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- esim. Kompassi, Yesbox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ffffb7"/>
                </a:solidFill>
                <a:latin typeface="Arial Black"/>
              </a:rPr>
              <a:t>Keskeiset tavoitteet </a:t>
            </a:r>
            <a:r>
              <a:rPr b="1" lang="fi-FI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fi-FI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fi-FI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fi-FI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fi-FI" sz="4400" spc="-1" strike="noStrike">
                <a:solidFill>
                  <a:srgbClr val="ffffb7"/>
                </a:solidFill>
                <a:latin typeface="Arial Black"/>
              </a:rPr>
              <a:t>jaksolle 2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Kv- työ Hyvinkään nuorisopalveluis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- Youth in Action (Nuorten Eurooppa, EV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Monikulttuurinen talotyö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- Yhdessä yhdenvertais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fi-FI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fi-FI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fi-FI" sz="4400" spc="-1" strike="noStrike">
                <a:solidFill>
                  <a:srgbClr val="ffffb7"/>
                </a:solidFill>
                <a:latin typeface="Arial Black"/>
              </a:rPr>
              <a:t>Hyödy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3616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Arial"/>
              </a:rPr>
              <a:t>Aito työelämäyhte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Arial"/>
              </a:rPr>
              <a:t>Todellisia yhteistyötarpeita (mamu – kerho, Vappu-aatto, katupäivystys, kv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Arial"/>
              </a:rPr>
              <a:t>Mahdollisuus teoriaopetuksen työvaltaistamise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Arial"/>
              </a:rPr>
              <a:t>Ammattiosaamisen päivitys (lakien toteuttaminen käytännössä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fi-FI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fi-FI" sz="4400" spc="-1" strike="noStrike">
                <a:solidFill>
                  <a:srgbClr val="ffffb7"/>
                </a:solidFill>
                <a:latin typeface="Arial Black"/>
              </a:rPr>
              <a:t>Hyödyt jatkuu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Arial"/>
              </a:rPr>
              <a:t>Työyhteisön tarpeiden tunnistaminen -&gt; millaisia opiskelijoita Hyvinkäälle kannattaa lähettää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Arial"/>
              </a:rPr>
              <a:t>Yhteistyön tuloksena tällä hetkellä 2 Keudan nuva-opiskelijaa on työllistynyt Hyvinkään nuorisopalveluih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fi-FI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fi-FI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fi-FI" sz="4400" spc="-1" strike="noStrike">
                <a:solidFill>
                  <a:srgbClr val="ffffb7"/>
                </a:solidFill>
                <a:latin typeface="Arial Black"/>
              </a:rPr>
              <a:t>Haastee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Lyhyt ajanjakso - &gt; ei mahdollista todellista työntekoa, ainoastaan tutustumisen ja perehtymisen (jos rehellisiä ollaa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Lomakemäärä kohtuuton ajanjaksoon nähd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(hakemus, työajanseuranta, palaute, raportti, esittel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Irrottautuminen omista töistä mahdotonta, joihinkin asioihin oli pakko reagoida -&gt; kahden työn tekemin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Ta:lle iso työ näin lyhyelle jaksol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10:53:25Z</dcterms:created>
  <dc:creator>nuoriso</dc:creator>
  <dc:description/>
  <dc:language>en-US</dc:language>
  <cp:lastModifiedBy>Susan Sundström-Varjonen</cp:lastModifiedBy>
  <dcterms:modified xsi:type="dcterms:W3CDTF">2011-03-16T08:26:47Z</dcterms:modified>
  <cp:revision>8</cp:revision>
  <dc:subject/>
  <dc:title> OPETTAJAN TYÖELÄMÄJAKSO</dc:title>
</cp:coreProperties>
</file>